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20.xml.rels" ContentType="application/vnd.openxmlformats-package.relationships+xml"/>
  <Override PartName="/ppt/slides/_rels/slide20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220.xml.rels" ContentType="application/vnd.openxmlformats-package.relationships+xml"/>
  <Override PartName="/ppt/slides/_rels/slide177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22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22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224.xml.rels" ContentType="application/vnd.openxmlformats-package.relationships+xml"/>
  <Override PartName="/ppt/slides/_rels/slide49.xml.rels" ContentType="application/vnd.openxmlformats-package.relationships+xml"/>
  <Override PartName="/ppt/slides/_rels/slide22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13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111.xml.rels" ContentType="application/vnd.openxmlformats-package.relationships+xml"/>
  <Override PartName="/ppt/slides/_rels/slide130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112.xml.rels" ContentType="application/vnd.openxmlformats-package.relationships+xml"/>
  <Override PartName="/ppt/slides/_rels/slide131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45.xml.rels" ContentType="application/vnd.openxmlformats-package.relationships+xml"/>
  <Override PartName="/ppt/slides/_rels/slide225.xml.rels" ContentType="application/vnd.openxmlformats-package.relationships+xml"/>
  <Override PartName="/ppt/slides/_rels/slide46.xml.rels" ContentType="application/vnd.openxmlformats-package.relationships+xml"/>
  <Override PartName="/ppt/slides/_rels/slide22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50.xml.rels" ContentType="application/vnd.openxmlformats-package.relationships+xml"/>
  <Override PartName="/ppt/slides/_rels/slide230.xml.rels" ContentType="application/vnd.openxmlformats-package.relationships+xml"/>
  <Override PartName="/ppt/slides/_rels/slide51.xml.rels" ContentType="application/vnd.openxmlformats-package.relationships+xml"/>
  <Override PartName="/ppt/slides/_rels/slide151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205.xml.rels" ContentType="application/vnd.openxmlformats-package.relationships+xml"/>
  <Override PartName="/ppt/slides/_rels/slide197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198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89.xml.rels" ContentType="application/vnd.openxmlformats-package.relationships+xml"/>
  <Override PartName="/ppt/slides/_rels/slide17.xml.rels" ContentType="application/vnd.openxmlformats-package.relationships+xml"/>
  <Override PartName="/ppt/slides/_rels/slide21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7.xml.rels" ContentType="application/vnd.openxmlformats-package.relationships+xml"/>
  <Override PartName="/ppt/slides/_rels/slide203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9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187.xml.rels" ContentType="application/vnd.openxmlformats-package.relationships+xml"/>
  <Override PartName="/ppt/slides/_rels/slide15.xml.rels" ContentType="application/vnd.openxmlformats-package.relationships+xml"/>
  <Override PartName="/ppt/slides/_rels/slide154.xml.rels" ContentType="application/vnd.openxmlformats-package.relationships+xml"/>
  <Override PartName="/ppt/slides/_rels/slide3.xml.rels" ContentType="application/vnd.openxmlformats-package.relationships+xml"/>
  <Override PartName="/ppt/slides/_rels/slide16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1.xml.rels" ContentType="application/vnd.openxmlformats-package.relationships+xml"/>
  <Override PartName="/ppt/slides/_rels/slide17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0.xml.rels" ContentType="application/vnd.openxmlformats-package.relationships+xml"/>
  <Override PartName="/ppt/slides/_rels/slide87.xml.rels" ContentType="application/vnd.openxmlformats-package.relationships+xml"/>
  <Override PartName="/ppt/slides/_rels/slide164.xml.rels" ContentType="application/vnd.openxmlformats-package.relationships+xml"/>
  <Override PartName="/ppt/slides/_rels/slide117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172.xml.rels" ContentType="application/vnd.openxmlformats-package.relationships+xml"/>
  <Override PartName="/ppt/slides/_rels/slide155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2.xml.rels" ContentType="application/vnd.openxmlformats-package.relationships+xml"/>
  <Override PartName="/ppt/slides/_rels/slide67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75.xml.rels" ContentType="application/vnd.openxmlformats-package.relationships+xml"/>
  <Override PartName="/ppt/slides/_rels/slide98.xml.rels" ContentType="application/vnd.openxmlformats-package.relationships+xml"/>
  <Override PartName="/ppt/slides/_rels/slide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49.xml.rels" ContentType="application/vnd.openxmlformats-package.relationships+xml"/>
  <Override PartName="/ppt/slides/_rels/slide54.xml.rels" ContentType="application/vnd.openxmlformats-package.relationships+xml"/>
  <Override PartName="/ppt/slides/_rels/slide211.xml.rels" ContentType="application/vnd.openxmlformats-package.relationships+xml"/>
  <Override PartName="/ppt/slides/_rels/slide31.xml.rels" ContentType="application/vnd.openxmlformats-package.relationships+xml"/>
  <Override PartName="/ppt/slides/_rels/slide159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157.xml.rels" ContentType="application/vnd.openxmlformats-package.relationships+xml"/>
  <Override PartName="/ppt/slides/_rels/slide167.xml.rels" ContentType="application/vnd.openxmlformats-package.relationships+xml"/>
  <Override PartName="/ppt/slides/_rels/slide231.xml.rels" ContentType="application/vnd.openxmlformats-package.relationships+xml"/>
  <Override PartName="/ppt/slides/_rels/slide179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52.xml.rels" ContentType="application/vnd.openxmlformats-package.relationships+xml"/>
  <Override PartName="/ppt/slides/_rels/slide232.xml.rels" ContentType="application/vnd.openxmlformats-package.relationships+xml"/>
  <Override PartName="/ppt/slides/_rels/slide53.xml.rels" ContentType="application/vnd.openxmlformats-package.relationships+xml"/>
  <Override PartName="/ppt/slides/_rels/slide233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193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55.xml.rels" ContentType="application/vnd.openxmlformats-package.relationships+xml"/>
  <Override PartName="/ppt/slides/_rels/slide43.xml.rels" ContentType="application/vnd.openxmlformats-package.relationships+xml"/>
  <Override PartName="/ppt/slides/_rels/slide223.xml.rels" ContentType="application/vnd.openxmlformats-package.relationships+xml"/>
  <Override PartName="/ppt/slides/_rels/slide207.xml.rels" ContentType="application/vnd.openxmlformats-package.relationships+xml"/>
  <Override PartName="/ppt/slides/_rels/slide27.xml.rels" ContentType="application/vnd.openxmlformats-package.relationships+xml"/>
  <Override PartName="/ppt/slides/_rels/slide199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42.xml.rels" ContentType="application/vnd.openxmlformats-package.relationships+xml"/>
  <Override PartName="/ppt/slides/_rels/slide222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221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4.xml.rels" ContentType="application/vnd.openxmlformats-package.relationships+xml"/>
  <Override PartName="/ppt/slides/_rels/slide196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80.xml" ContentType="application/vnd.openxmlformats-officedocument.presentationml.slide+xml"/>
  <Override PartName="/ppt/slides/slide59.xml" ContentType="application/vnd.openxmlformats-officedocument.presentationml.slide+xml"/>
  <Override PartName="/ppt/slides/slide155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.xml" ContentType="application/vnd.openxmlformats-officedocument.presentationml.slide+xml"/>
  <Override PartName="/ppt/slides/slide58.xml" ContentType="application/vnd.openxmlformats-officedocument.presentationml.slide+xml"/>
  <Override PartName="/ppt/slides/slide154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158.xml" ContentType="application/vnd.openxmlformats-officedocument.presentationml.slide+xml"/>
  <Override PartName="/ppt/slides/slide159.xml" ContentType="application/vnd.openxmlformats-officedocument.presentationml.slide+xml"/>
  <Override PartName="/ppt/slides/slide178.xml" ContentType="application/vnd.openxmlformats-officedocument.presentationml.slide+xml"/>
  <Override PartName="/ppt/slides/slide207.xml" ContentType="application/vnd.openxmlformats-officedocument.presentationml.slide+xml"/>
  <Override PartName="/ppt/slides/slide7.xml" ContentType="application/vnd.openxmlformats-officedocument.presentationml.slide+xml"/>
  <Override PartName="/ppt/slides/slide179.xml" ContentType="application/vnd.openxmlformats-officedocument.presentationml.slide+xml"/>
  <Override PartName="/ppt/slides/slide208.xml" ContentType="application/vnd.openxmlformats-officedocument.presentationml.slide+xml"/>
  <Override PartName="/ppt/slides/slide8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25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26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27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37.xml" ContentType="application/vnd.openxmlformats-officedocument.presentationml.slide+xml"/>
  <Override PartName="/ppt/slides/slide231.xml" ContentType="application/vnd.openxmlformats-officedocument.presentationml.slide+xml"/>
  <Override PartName="/ppt/slides/slide222.xml" ContentType="application/vnd.openxmlformats-officedocument.presentationml.slide+xml"/>
  <Override PartName="/ppt/slides/slide196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232.xml" ContentType="application/vnd.openxmlformats-officedocument.presentationml.slide+xml"/>
  <Override PartName="/ppt/slides/slide223.xml" ContentType="application/vnd.openxmlformats-officedocument.presentationml.slide+xml"/>
  <Override PartName="/ppt/slides/slide197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9.xml" ContentType="application/vnd.openxmlformats-officedocument.presentationml.slide+xml"/>
  <Override PartName="/ppt/slides/slide233.xml" ContentType="application/vnd.openxmlformats-officedocument.presentationml.slide+xml"/>
  <Override PartName="/ppt/slides/slide40.xml" ContentType="application/vnd.openxmlformats-officedocument.presentationml.slide+xml"/>
  <Override PartName="/ppt/slides/slide224.xml" ContentType="application/vnd.openxmlformats-officedocument.presentationml.slide+xml"/>
  <Override PartName="/ppt/slides/slide31.xml" ContentType="application/vnd.openxmlformats-officedocument.presentationml.slide+xml"/>
  <Override PartName="/ppt/slides/slide228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30.xml" ContentType="application/vnd.openxmlformats-officedocument.presentationml.slide+xml"/>
  <Override PartName="/ppt/slides/slide136.xml" ContentType="application/vnd.openxmlformats-officedocument.presentationml.slide+xml"/>
  <Override PartName="/ppt/slides/slide229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221.xml" ContentType="application/vnd.openxmlformats-officedocument.presentationml.slide+xml"/>
  <Override PartName="/ppt/slides/slide219.xml" ContentType="application/vnd.openxmlformats-officedocument.presentationml.slide+xml"/>
  <Override PartName="/ppt/slides/slide148.xml" ContentType="application/vnd.openxmlformats-officedocument.presentationml.slide+xml"/>
  <Override PartName="/ppt/slides/slide220.xml" ContentType="application/vnd.openxmlformats-officedocument.presentationml.slide+xml"/>
  <Override PartName="/ppt/slides/slide216.xml" ContentType="application/vnd.openxmlformats-officedocument.presentationml.slide+xml"/>
  <Override PartName="/ppt/slides/slide215.xml" ContentType="application/vnd.openxmlformats-officedocument.presentationml.slide+xml"/>
  <Override PartName="/ppt/slides/slide214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212.xml" ContentType="application/vnd.openxmlformats-officedocument.presentationml.slide+xml"/>
  <Override PartName="/ppt/slides/slide211.xml" ContentType="application/vnd.openxmlformats-officedocument.presentationml.slide+xml"/>
  <Override PartName="/ppt/slides/slide166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210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109.xml" ContentType="application/vnd.openxmlformats-officedocument.presentationml.slide+xml"/>
  <Override PartName="/ppt/slides/slide177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  <p:sldId id="407" r:id="rId170"/>
    <p:sldId id="408" r:id="rId171"/>
    <p:sldId id="409" r:id="rId172"/>
    <p:sldId id="410" r:id="rId173"/>
    <p:sldId id="411" r:id="rId174"/>
    <p:sldId id="412" r:id="rId175"/>
    <p:sldId id="413" r:id="rId176"/>
    <p:sldId id="414" r:id="rId177"/>
    <p:sldId id="415" r:id="rId178"/>
    <p:sldId id="416" r:id="rId179"/>
    <p:sldId id="417" r:id="rId180"/>
    <p:sldId id="418" r:id="rId181"/>
    <p:sldId id="419" r:id="rId182"/>
    <p:sldId id="420" r:id="rId183"/>
    <p:sldId id="421" r:id="rId184"/>
    <p:sldId id="422" r:id="rId185"/>
    <p:sldId id="423" r:id="rId186"/>
    <p:sldId id="424" r:id="rId187"/>
    <p:sldId id="425" r:id="rId188"/>
    <p:sldId id="426" r:id="rId189"/>
    <p:sldId id="427" r:id="rId190"/>
    <p:sldId id="428" r:id="rId191"/>
    <p:sldId id="429" r:id="rId192"/>
    <p:sldId id="430" r:id="rId193"/>
    <p:sldId id="431" r:id="rId194"/>
    <p:sldId id="432" r:id="rId195"/>
    <p:sldId id="433" r:id="rId196"/>
    <p:sldId id="434" r:id="rId197"/>
    <p:sldId id="435" r:id="rId198"/>
    <p:sldId id="436" r:id="rId199"/>
    <p:sldId id="437" r:id="rId200"/>
    <p:sldId id="438" r:id="rId201"/>
    <p:sldId id="439" r:id="rId202"/>
    <p:sldId id="440" r:id="rId203"/>
    <p:sldId id="441" r:id="rId204"/>
    <p:sldId id="442" r:id="rId205"/>
    <p:sldId id="443" r:id="rId206"/>
    <p:sldId id="444" r:id="rId207"/>
    <p:sldId id="445" r:id="rId208"/>
    <p:sldId id="446" r:id="rId209"/>
    <p:sldId id="447" r:id="rId210"/>
    <p:sldId id="448" r:id="rId211"/>
    <p:sldId id="449" r:id="rId212"/>
    <p:sldId id="450" r:id="rId213"/>
    <p:sldId id="451" r:id="rId214"/>
    <p:sldId id="452" r:id="rId215"/>
    <p:sldId id="453" r:id="rId216"/>
    <p:sldId id="454" r:id="rId217"/>
    <p:sldId id="455" r:id="rId218"/>
    <p:sldId id="456" r:id="rId219"/>
    <p:sldId id="457" r:id="rId220"/>
    <p:sldId id="458" r:id="rId221"/>
    <p:sldId id="459" r:id="rId222"/>
    <p:sldId id="460" r:id="rId223"/>
    <p:sldId id="461" r:id="rId224"/>
    <p:sldId id="462" r:id="rId225"/>
    <p:sldId id="463" r:id="rId226"/>
    <p:sldId id="464" r:id="rId227"/>
    <p:sldId id="465" r:id="rId228"/>
    <p:sldId id="466" r:id="rId229"/>
    <p:sldId id="467" r:id="rId230"/>
    <p:sldId id="468" r:id="rId231"/>
    <p:sldId id="469" r:id="rId232"/>
    <p:sldId id="470" r:id="rId233"/>
    <p:sldId id="471" r:id="rId234"/>
    <p:sldId id="472" r:id="rId235"/>
    <p:sldId id="473" r:id="rId236"/>
    <p:sldId id="474" r:id="rId237"/>
    <p:sldId id="475" r:id="rId238"/>
    <p:sldId id="476" r:id="rId239"/>
    <p:sldId id="477" r:id="rId240"/>
    <p:sldId id="478" r:id="rId241"/>
    <p:sldId id="479" r:id="rId242"/>
    <p:sldId id="480" r:id="rId243"/>
    <p:sldId id="481" r:id="rId244"/>
    <p:sldId id="482" r:id="rId245"/>
    <p:sldId id="483" r:id="rId246"/>
    <p:sldId id="484" r:id="rId247"/>
    <p:sldId id="485" r:id="rId248"/>
    <p:sldId id="486" r:id="rId249"/>
    <p:sldId id="487" r:id="rId250"/>
    <p:sldId id="488" r:id="rId2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slide" Target="slides/slide152.xml"/><Relationship Id="rId171" Type="http://schemas.openxmlformats.org/officeDocument/2006/relationships/slide" Target="slides/slide153.xml"/><Relationship Id="rId172" Type="http://schemas.openxmlformats.org/officeDocument/2006/relationships/slide" Target="slides/slide154.xml"/><Relationship Id="rId173" Type="http://schemas.openxmlformats.org/officeDocument/2006/relationships/slide" Target="slides/slide155.xml"/><Relationship Id="rId174" Type="http://schemas.openxmlformats.org/officeDocument/2006/relationships/slide" Target="slides/slide156.xml"/><Relationship Id="rId175" Type="http://schemas.openxmlformats.org/officeDocument/2006/relationships/slide" Target="slides/slide157.xml"/><Relationship Id="rId176" Type="http://schemas.openxmlformats.org/officeDocument/2006/relationships/slide" Target="slides/slide158.xml"/><Relationship Id="rId177" Type="http://schemas.openxmlformats.org/officeDocument/2006/relationships/slide" Target="slides/slide159.xml"/><Relationship Id="rId178" Type="http://schemas.openxmlformats.org/officeDocument/2006/relationships/slide" Target="slides/slide160.xml"/><Relationship Id="rId179" Type="http://schemas.openxmlformats.org/officeDocument/2006/relationships/slide" Target="slides/slide161.xml"/><Relationship Id="rId180" Type="http://schemas.openxmlformats.org/officeDocument/2006/relationships/slide" Target="slides/slide162.xml"/><Relationship Id="rId181" Type="http://schemas.openxmlformats.org/officeDocument/2006/relationships/slide" Target="slides/slide163.xml"/><Relationship Id="rId182" Type="http://schemas.openxmlformats.org/officeDocument/2006/relationships/slide" Target="slides/slide164.xml"/><Relationship Id="rId183" Type="http://schemas.openxmlformats.org/officeDocument/2006/relationships/slide" Target="slides/slide165.xml"/><Relationship Id="rId184" Type="http://schemas.openxmlformats.org/officeDocument/2006/relationships/slide" Target="slides/slide166.xml"/><Relationship Id="rId185" Type="http://schemas.openxmlformats.org/officeDocument/2006/relationships/slide" Target="slides/slide167.xml"/><Relationship Id="rId186" Type="http://schemas.openxmlformats.org/officeDocument/2006/relationships/slide" Target="slides/slide168.xml"/><Relationship Id="rId187" Type="http://schemas.openxmlformats.org/officeDocument/2006/relationships/slide" Target="slides/slide169.xml"/><Relationship Id="rId188" Type="http://schemas.openxmlformats.org/officeDocument/2006/relationships/slide" Target="slides/slide170.xml"/><Relationship Id="rId189" Type="http://schemas.openxmlformats.org/officeDocument/2006/relationships/slide" Target="slides/slide171.xml"/><Relationship Id="rId190" Type="http://schemas.openxmlformats.org/officeDocument/2006/relationships/slide" Target="slides/slide172.xml"/><Relationship Id="rId191" Type="http://schemas.openxmlformats.org/officeDocument/2006/relationships/slide" Target="slides/slide173.xml"/><Relationship Id="rId192" Type="http://schemas.openxmlformats.org/officeDocument/2006/relationships/slide" Target="slides/slide174.xml"/><Relationship Id="rId193" Type="http://schemas.openxmlformats.org/officeDocument/2006/relationships/slide" Target="slides/slide175.xml"/><Relationship Id="rId194" Type="http://schemas.openxmlformats.org/officeDocument/2006/relationships/slide" Target="slides/slide176.xml"/><Relationship Id="rId195" Type="http://schemas.openxmlformats.org/officeDocument/2006/relationships/slide" Target="slides/slide177.xml"/><Relationship Id="rId196" Type="http://schemas.openxmlformats.org/officeDocument/2006/relationships/slide" Target="slides/slide178.xml"/><Relationship Id="rId197" Type="http://schemas.openxmlformats.org/officeDocument/2006/relationships/slide" Target="slides/slide179.xml"/><Relationship Id="rId198" Type="http://schemas.openxmlformats.org/officeDocument/2006/relationships/slide" Target="slides/slide180.xml"/><Relationship Id="rId199" Type="http://schemas.openxmlformats.org/officeDocument/2006/relationships/slide" Target="slides/slide181.xml"/><Relationship Id="rId200" Type="http://schemas.openxmlformats.org/officeDocument/2006/relationships/slide" Target="slides/slide182.xml"/><Relationship Id="rId201" Type="http://schemas.openxmlformats.org/officeDocument/2006/relationships/slide" Target="slides/slide183.xml"/><Relationship Id="rId202" Type="http://schemas.openxmlformats.org/officeDocument/2006/relationships/slide" Target="slides/slide184.xml"/><Relationship Id="rId203" Type="http://schemas.openxmlformats.org/officeDocument/2006/relationships/slide" Target="slides/slide185.xml"/><Relationship Id="rId204" Type="http://schemas.openxmlformats.org/officeDocument/2006/relationships/slide" Target="slides/slide186.xml"/><Relationship Id="rId205" Type="http://schemas.openxmlformats.org/officeDocument/2006/relationships/slide" Target="slides/slide187.xml"/><Relationship Id="rId206" Type="http://schemas.openxmlformats.org/officeDocument/2006/relationships/slide" Target="slides/slide188.xml"/><Relationship Id="rId207" Type="http://schemas.openxmlformats.org/officeDocument/2006/relationships/slide" Target="slides/slide189.xml"/><Relationship Id="rId208" Type="http://schemas.openxmlformats.org/officeDocument/2006/relationships/slide" Target="slides/slide190.xml"/><Relationship Id="rId209" Type="http://schemas.openxmlformats.org/officeDocument/2006/relationships/slide" Target="slides/slide191.xml"/><Relationship Id="rId210" Type="http://schemas.openxmlformats.org/officeDocument/2006/relationships/slide" Target="slides/slide192.xml"/><Relationship Id="rId211" Type="http://schemas.openxmlformats.org/officeDocument/2006/relationships/slide" Target="slides/slide193.xml"/><Relationship Id="rId212" Type="http://schemas.openxmlformats.org/officeDocument/2006/relationships/slide" Target="slides/slide194.xml"/><Relationship Id="rId213" Type="http://schemas.openxmlformats.org/officeDocument/2006/relationships/slide" Target="slides/slide195.xml"/><Relationship Id="rId214" Type="http://schemas.openxmlformats.org/officeDocument/2006/relationships/slide" Target="slides/slide196.xml"/><Relationship Id="rId215" Type="http://schemas.openxmlformats.org/officeDocument/2006/relationships/slide" Target="slides/slide197.xml"/><Relationship Id="rId216" Type="http://schemas.openxmlformats.org/officeDocument/2006/relationships/slide" Target="slides/slide198.xml"/><Relationship Id="rId217" Type="http://schemas.openxmlformats.org/officeDocument/2006/relationships/slide" Target="slides/slide199.xml"/><Relationship Id="rId218" Type="http://schemas.openxmlformats.org/officeDocument/2006/relationships/slide" Target="slides/slide200.xml"/><Relationship Id="rId219" Type="http://schemas.openxmlformats.org/officeDocument/2006/relationships/slide" Target="slides/slide201.xml"/><Relationship Id="rId220" Type="http://schemas.openxmlformats.org/officeDocument/2006/relationships/slide" Target="slides/slide202.xml"/><Relationship Id="rId221" Type="http://schemas.openxmlformats.org/officeDocument/2006/relationships/slide" Target="slides/slide203.xml"/><Relationship Id="rId222" Type="http://schemas.openxmlformats.org/officeDocument/2006/relationships/slide" Target="slides/slide204.xml"/><Relationship Id="rId223" Type="http://schemas.openxmlformats.org/officeDocument/2006/relationships/slide" Target="slides/slide205.xml"/><Relationship Id="rId224" Type="http://schemas.openxmlformats.org/officeDocument/2006/relationships/slide" Target="slides/slide206.xml"/><Relationship Id="rId225" Type="http://schemas.openxmlformats.org/officeDocument/2006/relationships/slide" Target="slides/slide207.xml"/><Relationship Id="rId226" Type="http://schemas.openxmlformats.org/officeDocument/2006/relationships/slide" Target="slides/slide208.xml"/><Relationship Id="rId227" Type="http://schemas.openxmlformats.org/officeDocument/2006/relationships/slide" Target="slides/slide209.xml"/><Relationship Id="rId228" Type="http://schemas.openxmlformats.org/officeDocument/2006/relationships/slide" Target="slides/slide210.xml"/><Relationship Id="rId229" Type="http://schemas.openxmlformats.org/officeDocument/2006/relationships/slide" Target="slides/slide211.xml"/><Relationship Id="rId230" Type="http://schemas.openxmlformats.org/officeDocument/2006/relationships/slide" Target="slides/slide212.xml"/><Relationship Id="rId231" Type="http://schemas.openxmlformats.org/officeDocument/2006/relationships/slide" Target="slides/slide213.xml"/><Relationship Id="rId232" Type="http://schemas.openxmlformats.org/officeDocument/2006/relationships/slide" Target="slides/slide214.xml"/><Relationship Id="rId233" Type="http://schemas.openxmlformats.org/officeDocument/2006/relationships/slide" Target="slides/slide215.xml"/><Relationship Id="rId234" Type="http://schemas.openxmlformats.org/officeDocument/2006/relationships/slide" Target="slides/slide216.xml"/><Relationship Id="rId235" Type="http://schemas.openxmlformats.org/officeDocument/2006/relationships/slide" Target="slides/slide217.xml"/><Relationship Id="rId236" Type="http://schemas.openxmlformats.org/officeDocument/2006/relationships/slide" Target="slides/slide218.xml"/><Relationship Id="rId237" Type="http://schemas.openxmlformats.org/officeDocument/2006/relationships/slide" Target="slides/slide219.xml"/><Relationship Id="rId238" Type="http://schemas.openxmlformats.org/officeDocument/2006/relationships/slide" Target="slides/slide220.xml"/><Relationship Id="rId239" Type="http://schemas.openxmlformats.org/officeDocument/2006/relationships/slide" Target="slides/slide221.xml"/><Relationship Id="rId240" Type="http://schemas.openxmlformats.org/officeDocument/2006/relationships/slide" Target="slides/slide222.xml"/><Relationship Id="rId241" Type="http://schemas.openxmlformats.org/officeDocument/2006/relationships/slide" Target="slides/slide223.xml"/><Relationship Id="rId242" Type="http://schemas.openxmlformats.org/officeDocument/2006/relationships/slide" Target="slides/slide224.xml"/><Relationship Id="rId243" Type="http://schemas.openxmlformats.org/officeDocument/2006/relationships/slide" Target="slides/slide225.xml"/><Relationship Id="rId244" Type="http://schemas.openxmlformats.org/officeDocument/2006/relationships/slide" Target="slides/slide226.xml"/><Relationship Id="rId245" Type="http://schemas.openxmlformats.org/officeDocument/2006/relationships/slide" Target="slides/slide227.xml"/><Relationship Id="rId246" Type="http://schemas.openxmlformats.org/officeDocument/2006/relationships/slide" Target="slides/slide228.xml"/><Relationship Id="rId247" Type="http://schemas.openxmlformats.org/officeDocument/2006/relationships/slide" Target="slides/slide229.xml"/><Relationship Id="rId248" Type="http://schemas.openxmlformats.org/officeDocument/2006/relationships/slide" Target="slides/slide230.xml"/><Relationship Id="rId249" Type="http://schemas.openxmlformats.org/officeDocument/2006/relationships/slide" Target="slides/slide231.xml"/><Relationship Id="rId250" Type="http://schemas.openxmlformats.org/officeDocument/2006/relationships/slide" Target="slides/slide232.xml"/><Relationship Id="rId251" Type="http://schemas.openxmlformats.org/officeDocument/2006/relationships/slide" Target="slides/slide233.xml"/><Relationship Id="rId2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C278-BF8B-4D60-A365-A7B093B8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71A9-83CB-4B4F-A0FA-58691610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CF52A-FADB-411D-BB91-3530BA04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FB4628-3D59-4F8E-89B9-468E5D60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3BF52-C8CC-41AF-88A9-CA598AA7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243E2-D913-416A-B4C4-E6864FAB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73E51-1311-4DB3-B450-5FECC80F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46122A-4855-439D-A4D4-EE23310B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EB01A-0673-40BD-8353-6F7E2585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9CD99-4292-4133-ADA3-094A6EB3B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471EB-63F5-4F6F-A6F1-A74BCE46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78BF9-2576-4562-B5FF-5866ED78B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5207-DA76-4E1F-9A3A-48844527C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F1995-0E3E-44DD-9A5E-E007FE7D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DC43B-73C3-44AE-A0D0-BC924015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1F2ED-7435-4CB7-A63F-68ACC7919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406C1-FABB-43DF-9F9E-1184FD6D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13E76-C365-4782-A118-DDB7C2E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3CA4F-128F-4E4A-A1AB-59A9019A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89955-0E03-448A-A135-8BFF3BD0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68F66-34F5-4CD1-B4F2-DD0136D7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B6283-30C1-4AB5-ACEE-CF437974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11DAB-49D3-48F0-820B-B195307E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EAD-AB36-4DE7-9F7B-31F560D45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F4370-3D61-4C68-ABE0-1DD3CD2C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1435B-FA17-4A12-82D4-A850C5FE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79C8-8381-44E2-9B62-A456A0D3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18BD2-4008-4B77-B71B-4733F3DB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B65C9A-BED5-4277-9810-4F94CEBB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F6319-B803-45E6-B1BA-A57EC7CC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5578B-AEDB-450E-A498-EE230876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E20C0-543B-4A60-8CE8-02A4B77D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F5235-F770-425B-B491-4F1D92BE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984FE-E306-4F88-BB71-E2161BC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7733-0634-4A8B-952D-A52A589E5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311CBD-F58A-452A-85AA-10EE24CF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41818-7D52-400B-AF09-31A425CD4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F40D4-D84B-4C1E-903A-FA368D68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3F02D-14FF-4425-94F7-2D1480529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473B-DC29-4342-94CB-7CDDB93C0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291BB-51EC-4D61-8473-1D28C95D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63C76-F143-434A-A423-9A9FEE195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FD3F5F-5B46-43AE-8321-6609CAC8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CDE8A-0B2A-4E41-843E-65E2EB8E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68932-E068-4ABA-A1E8-2C90DE17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F1419-8C73-4E92-AE6B-0A7052580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4FC94C-8326-46B9-AA68-94C1F0FC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4EDC4-1410-4A80-973A-A5A497B7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C24E7-9B32-418B-9153-200FF5B4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60547-3995-4FA9-AEB9-6B40EC97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AAD46-8837-40B1-A22A-97F2819A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D0F87-7C2A-4164-9DA0-3D4F4393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BAF350-1DFC-4E9B-9ECD-03023706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1C510B-612D-4E88-81F9-2CEA580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A8386-1444-4D3D-AB75-918D3F85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30488D-0684-4E0A-BEA1-4A68AB19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25C3-7320-4D32-BB3C-D1A105B8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B7976-227D-41E1-8766-0CABA1ED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47247-AA60-409F-8302-2EBFEDDD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DE8E43-5933-48BD-B121-19F8A7D0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A45763-0053-4921-B95C-CE8D6E12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25134-75CE-4766-97A6-71F70F1A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E932AF-8052-4ABD-89C6-59BE3233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15155-33B0-462D-B251-B74FC7AE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74941-7E4C-4A7B-9FDA-159CAEDF8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5B9B4-6A75-4A91-9069-BB5E23F4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5F943A-03E6-480B-AE7B-3001264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09BB-EE1F-4DBD-9CFA-74921E89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D8AA7-A94B-4DD1-A724-6AABDB06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BE4D88-E6BC-4CBA-A5F2-AEA74BDC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E15113-5996-47C0-8289-F5DC235E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AB8AF2-99D7-41C6-83AB-30D5FD04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7A454-7922-4A83-BA15-529EC78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54266-0BFA-4E72-AA81-7FEF31E9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C70016-653B-4A61-8BE7-E3465F68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3EE854-642C-41D6-A05B-66E7A01B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F1EBE-9B26-4206-98B2-BDDB37AE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F6AE8-6DF7-4643-B669-4587AB199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743AF-3A92-4961-A8AF-27FE405D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22AF06-CAB5-429C-810D-4E42F58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A6963-B5DB-4F1D-BBF5-6D514ACA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66B9F-2A67-49B6-B8A1-187F22713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A476F8-775B-427E-90A1-5354A678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4D7AA3-0B2D-4AC7-9BA2-8FEBA71E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C2DD5B-8D22-46A4-A98D-9A78822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5B2395-34A3-4DD7-B735-C0861DDC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ADB21-9CE8-46A5-A88F-4B28455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D5F42-7F31-4418-BB43-499EA0AC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7099A8-70D0-4A31-AEB2-EE1CD94E6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C352-0150-4802-9B52-505B087D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13004-8246-4BCD-8238-5CD3C520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5B8B9-7A25-457D-9AD5-A420614F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5D0F5-06F6-42A5-B64B-02088FCC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6EB1E2-3650-441D-B610-4AB8C12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C44F1C-B9E1-42E6-A48E-C074CD95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1FB44-8F3E-4292-AF91-7A6CAE9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0D56F-3438-4B78-B4BB-C816881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3FDE74-3F43-4FD9-96C1-ADA5343B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633AEB-2175-4404-9E72-6CDD10D7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BED79-DE7E-4F3A-B4E0-FC7ECF4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48A9-91DA-484A-BDD8-F18D5793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3C39F1-295B-47F2-9F28-3E1E6141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7FBCC-00AA-4023-BDB4-BB64C7CA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9EE3A6-5EDE-413B-85FC-A1541F36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A8F59F-B8EB-4DF0-88C7-AD044015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95BC2-0711-4535-80D9-1B739D19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8D46EF-1747-42C1-8D8C-FC252CF0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BFCDCE-DAF6-4F90-8DFD-ED02FE15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1D8C3-EE30-402A-9041-64878EA5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EC98F-0745-476C-8796-4C5D5895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9091A7-6759-4C78-910E-A0DE8697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20B-B330-4C95-A477-96CAAAF3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F68B-0530-46C2-81CF-C491E6DB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27F7C-ACBF-4AD7-939B-E6B7F62A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132A3B-C521-4F7B-828A-C5A579BA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B44D0-FA16-48CB-8567-6C1FB6EE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E95A2D-3154-4D5E-9635-EED67D77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5FEF2-2EC4-4971-98A5-363ABE4B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D5B2-2D99-4A97-9BA6-362F8A41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33C0-873C-4369-8472-7A49FFB8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11B10-E024-4410-9190-E1D90D080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1FA4-5AE7-4D01-8A2B-12ED0F2B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2184C-D5BB-4F86-84A9-ABCE978E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2F096-BEA8-4848-B82B-5B02C0D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88B04-92A5-4DE0-B974-DEC1B7E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FAAD4-AEC4-46A3-9E65-D1C5DD26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2BDA4-3D07-4AE3-B9AC-71CC8C5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944-7B8A-4412-803A-7C18C64C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E358-513F-4E3F-95A6-4D937C9A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247E-48DE-4BDE-9AE7-E2D0A7FAD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A30EE-6392-41D1-B901-7F4B0D0D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BCC5-9322-41FF-AE64-F0D2B79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80601-F123-4ED7-A8DB-902A168C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7AAB-3A2E-4D5E-A61C-F41DC1D8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89EDB-A560-4FBD-96BF-C749127E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B028C-637E-41AD-8ECA-8EB5E8EBA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B1A71-3D37-4C14-BC67-B853689F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9B7A0-10D8-4470-BCDA-BC2F9578F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365-8442-42D7-BFCC-A2203345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80C73-8D54-4F99-87FC-B33D24D1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0BED0-58EB-4A82-87CF-86875C62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B87F3-7F8A-4203-95A6-7C6CE7BD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67A9-013E-4D89-AB4C-6D098D72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9B53B-CAB4-4DA6-82FC-1A274AE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BCBF3-F8E0-4001-94CD-8638ECD7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C3A1-28B6-4EB2-A960-74D730E5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97879-F610-43B2-AD7D-225F12BD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1F34-B807-4F4D-A41B-14673F62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0A268-FD49-4D90-9E1C-6F8A4524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1B5-7C33-4260-9514-E0AC8DE16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24AA6-8D00-41E8-A29F-6ADE3611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93549-69FC-42A2-951B-DFAB04D8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EF7FF-8A63-4B52-9DE1-7B0965C8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71D71-D1C7-4DA7-BEF5-A2C6C65E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864F5-7C8C-4885-8843-46A3250B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C55A7-50EE-4B67-B3D4-05CE0289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D83B-CDC9-4A25-AD9C-C6E1FB230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6CE73-8CE4-4A01-B059-7712C008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F2EAF-BC91-4091-AC84-463BCF2C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02936-D3B0-43BC-94C9-F84CCACE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03F-16C5-48A2-B746-92E6B018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8C086-759C-44F7-8BCF-CCE038BC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7603A-BEE4-489B-84FB-0C88FE52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BB303-BBEF-4618-B095-18233223A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B479-4875-4EAD-96ED-71A982C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AC75C-BE85-472F-93CE-DBD85FFA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49485-CBF0-466A-8F0F-649EE19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FF27-285A-40F4-8AAC-9FFD1D1F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6A275-A584-4685-B86C-3036FA18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81240-98C5-4A4F-8069-4A485E05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4E5AC-ED2A-4E03-81F1-C485DD63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D12-8EE5-4149-A8AE-A8261151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B49AB-E2C9-4BEC-BEBB-28FDDD6F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A436-4A30-4DEB-90E9-EAAA98ABC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816FA-3970-408D-B525-56B28078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FAA4A-925B-4756-B74D-6E7C9419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8898A-A6AF-4D6C-A4AC-9D5815D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E77AE-95D3-4E30-BA85-C2012AD3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C71E2-6492-4464-8C6E-7C5970A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1256-8243-4B51-8976-D86119F7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CCE89-681F-4FAD-A93F-DDBC2BBF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63D39-7157-44F2-93E0-0A4AC2A2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E17-D713-4DCB-A596-1A2A9286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A2709-5C50-4FAA-9BA0-9923558C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EC5B8-820C-4316-B654-A2D75C78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C7D26-0900-45E1-A4F8-17C035BE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EFC4-AE60-4AFC-9164-19E0D70E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41267-1C94-4476-9E5F-2D3431A22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39F91-D796-41B5-B6FD-8631C0D0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6B8BF-43D5-4781-B45B-367E5329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7083A-154D-4B78-B98C-C92735A04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07941-37D0-407E-9F06-31601FD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C032D-8301-421D-931B-B0B090FC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39E-CAE4-4705-8822-D6015EB7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F0D11-24D9-43E2-92D3-DDC4D17F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8E3B3-DEF5-4F09-97B4-4D9DA1282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567E7-D05E-49B3-94BC-C6B0F418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F56AB-0C74-44C0-AFD5-393967EE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BBFD8-B85A-407C-958A-AE2EEDB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C6FEC4-E2CE-48BC-95DF-36D89012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581EC-1905-4A83-82C5-E01327D5D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D70D7B-A188-48EE-BF1E-A42D9687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ACAE-A17A-4A69-A0A4-57B2408F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514BB-A778-437A-8A0D-AF586DF9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3B4F-10B7-45BE-95A6-0AB7A54376EF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764A-C923-45FF-B846-B6F6622C01D5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43E3-8737-4115-8047-0273028ECE5C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F2D0-9616-4F40-8887-CC5ABAC5C1D7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158B-DBCD-4BB0-B29D-13AF82DCED83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504D8-230A-4196-89DB-C42005F89004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A10-F516-4017-8F24-6277A10C12C1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0307-6FF9-4A8D-88D5-13BB39C76047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CB240-855C-4F78-87AA-6F200480C57F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FA19-F5E9-46BF-B9BC-16269C1BCE0D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ADCC-3AEA-4A4A-AD1A-0A02BD3DA229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B55A-6D75-4E69-82AB-DB13AEA606A8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B6E0-FD94-46EA-A2AE-B4B1C4C340D5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7316-4AA2-442E-913F-FEAD8413A6FB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63DE-14AE-4063-88C8-85930E6543C8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4239-3543-4C23-8ED2-54C489627AEC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8087-4A98-4791-B1B5-2FA1D2EBFDD1}" type="slidenum">
              <a:rPr b="0" lang="es-ES" sz="24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553320" y="1484280"/>
            <a:ext cx="7913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entury Gothic"/>
              </a:rPr>
              <a:t>UN PODE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Baskerville Old Face"/>
              </a:rPr>
              <a:t>MISTERIOS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0" spc="-1" strike="noStrike">
                <a:solidFill>
                  <a:srgbClr val="000000"/>
                </a:solidFill>
                <a:latin typeface="Century Gothic"/>
              </a:rPr>
              <a:t>QUE CONVENC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468360" y="185112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renunciare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pecado a menos que veamos su pecaminos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395280" y="1989000"/>
            <a:ext cx="8280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iscernimos el egoísmo de nuestros motivos y la enemistad contra Dios,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que ha manchado todos los actos de nuestra v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395280" y="191304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onocemos que nuestra propia justicia es en verdad como andrajos inmund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95280" y="198900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solamente la sangre de Cristo puede limpiarnos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las manchas del pecado y renovar nuestro corazón a su semej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324000" y="22050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 rayo de luz de la gloria de Dios, un destello de la pureza de Cristo que penetre en el al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468360" y="206064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lo que hace dolorosamente visible toda mancha de pecado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descubre la deformidad y los defectos del carácter hum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468360" y="1822320"/>
            <a:ext cx="813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Hace patentes los deseos impuros, la infidel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l corazón y la impureza de los lab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324000" y="2060640"/>
            <a:ext cx="8496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s actos de deslealt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l pecador que anulan la le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Dios, quedan expuestos a su vis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24000" y="2406600"/>
            <a:ext cx="8280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 espíritu se afli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e oprime bajo la influencia escudriñadora del Espíritu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95280" y="2139840"/>
            <a:ext cx="820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e aborrece a sí mismo viendo el carácter puro 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n mancha de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395280" y="1903320"/>
            <a:ext cx="8497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Cuando Daniel vio la gloria que rodeaba al mensajero celestial que le había sido enviado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e sintió abrumado por su propia debilidad e imperfe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95280" y="192420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ientras no lo repudiemos de corazón, no habrá cambio real en la v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324000" y="1374840"/>
            <a:ext cx="849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cribiendo el efecto de la maravillosa escena, dic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No quedó en mi esfuerzo, y mi lozanía se me demudó en palidez  de muerte, y no retuve fuerza alguna"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Daniel 10: 8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395280" y="1800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el alma se conmueve de esta manera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odia el egoísmo, aborrece el amor prop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1"/>
          <p:cNvSpPr/>
          <p:nvPr/>
        </p:nvSpPr>
        <p:spPr>
          <a:xfrm>
            <a:off x="324000" y="1852560"/>
            <a:ext cx="8640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busca, mediante la justicia de Cris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pureza de corazón que está en armonía con la ley de Dios y con el carácter de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468360" y="1677960"/>
            <a:ext cx="82072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an Pablo dice 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n cuanto a justicia que haya en la ley”. 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s decir, en cuanto se refiere a las obras externas, era </a:t>
            </a: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“irreprensibl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Filipenses 3: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395280" y="192420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cuando comprendió el carácter espiritual de la ley, se vio a sí mismo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395280" y="1773360"/>
            <a:ext cx="820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uzgado por la letra de la ley como los hombres la aplican a la vida externa, se había abstenido de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1"/>
          <p:cNvSpPr/>
          <p:nvPr/>
        </p:nvSpPr>
        <p:spPr>
          <a:xfrm>
            <a:off x="179280" y="1852560"/>
            <a:ext cx="87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o cuando miró en la profundidad de sus santos preceptos y se vio como Dios lo veía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 humilló profundamente y confesó su mal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324000" y="1476360"/>
            <a:ext cx="835164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ic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yo aparte de la ley vivía en un tiempo: mas cuando vino el mandamiento, revivió el pecado, y yo morí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Romanos 7: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395280" y="1700280"/>
            <a:ext cx="828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do vio la naturaleza espiritual de la ley, se le mostró el pecado en su verdadera deformidad y su estimación propia se desvaneci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539640" y="1989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todos los pecados son delante de Dios de igual magnitu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539640" y="1700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y muchos que no entienden la naturaleza verdadera del arrepentimien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395280" y="1700280"/>
            <a:ext cx="813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y diferencia de pecados a su juicio, como la hay a juicio d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1"/>
          <p:cNvSpPr/>
          <p:nvPr/>
        </p:nvSpPr>
        <p:spPr>
          <a:xfrm>
            <a:off x="468360" y="1924200"/>
            <a:ext cx="82072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n embargo, aunque éste o aquel acto malo pueda parecer frívolo a los ojos de los hombre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ingún pecado es pequeño a la vista de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2"/>
          <p:cNvSpPr/>
          <p:nvPr/>
        </p:nvSpPr>
        <p:spPr>
          <a:xfrm>
            <a:off x="539640" y="1709640"/>
            <a:ext cx="8064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juicio de los hombres es parcial e imperfec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ás Dios ve todas las cosas como son realm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468360" y="1628640"/>
            <a:ext cx="8351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borracho 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testado y se d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su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excluirá del cie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395280" y="18032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ientras que el orgullo, el egoísmo y la codicia muchísimas veces pasan sin condena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468360" y="1989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 embargo, éstos son pecados que ofenden especialmente a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395280" y="1628640"/>
            <a:ext cx="82090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son contrarios a la benevolencia de su carácte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 ese amor desinteresado que es la misma atmósfera del universo que no ha caí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250920" y="220500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que cae en alguno de los pecados gran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uede avergonzarse y sentir su necesidad de la gracia de Cris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395280" y="177336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el orgullo no siente ninguna necesidad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y así cierra el corazón a Cristo y a las infinitas bendiciones que él vino a derram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539640" y="215100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El pobre publicano que oraba diciendo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Dios, ten misericordia de mí, pecador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Lucas 18: 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539640" y="213984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Gran número de personas se entristecen p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er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179280" y="1892160"/>
            <a:ext cx="85694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Se consideraba a sí mismo como un hombre muy malvado y así lo consideraban los demá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395280" y="2349360"/>
            <a:ext cx="8353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él sentía su necesid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n su carga de pecado y vergüenza vino delante de Dios implorando su misericor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468360" y="1822320"/>
            <a:ext cx="835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u corazón estaba abierto para que el Espíritu de Dios hiciese en él su obra de gracia y lo libertase del poder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468360" y="1658880"/>
            <a:ext cx="813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oración jactanciosa y presuntuosa del fariseo mostró que su corazón estaba cerrado a la influencia del Espíritu Sa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324000" y="1844640"/>
            <a:ext cx="8496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 estar lejos de Dios, no tenía idea de su propia corrupción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contrastaba con la perfección de la Santidad Divi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395280" y="20653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sentía necesidad alguna y no recibió na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395280" y="198900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Si percibís vuestra condición pecaminos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o esperéis a hacer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ejores vosotros mism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250920" y="1873080"/>
            <a:ext cx="87138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¡Cuántos hay que piensan que no son bastante buenos para ir a Cristo!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¿Esperáis haceros mejores por vuestros propios esfuerzos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250920" y="1701720"/>
            <a:ext cx="84247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¿Puede acaso el etíope mudar su piel, o el leopardo sus manchas? entonces podréis vosotros también obrar bien, que estáis habituados a obrar  mal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Jeremías 13: 2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611280" y="2138400"/>
            <a:ext cx="81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y ayuda para nosotros solamente en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95280" y="1913040"/>
            <a:ext cx="8064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aun se reforman exteriorment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rque temen que su mala vida les acarree sufrimie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395280" y="174960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No debemos permanecer en espera de persuasiones más fuerte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ejores oportunidades o de caracteres más san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179280" y="1905120"/>
            <a:ext cx="8856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ada podemos ha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r nosotros mis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bemos ir a Cristo tales como so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1"/>
          <p:cNvSpPr/>
          <p:nvPr/>
        </p:nvSpPr>
        <p:spPr>
          <a:xfrm>
            <a:off x="250920" y="1773360"/>
            <a:ext cx="878508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Pero nadie se engañe a s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mismo con el pensami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de que Dios en su gran amor y misericordia, salvará aun a aquellos que rechazan su gra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108000" y="1989000"/>
            <a:ext cx="90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excesiva corrup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pecado puede conocerse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lamente a la luz de la cru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324000" y="1916280"/>
            <a:ext cx="849600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los hombres insisten en que Dios es demasiado bueno para desechar a los pecadore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iren al Calvar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468360" y="207972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Fue porque no había otra manera en que el hombre pudiese ser salv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395280" y="1628640"/>
            <a:ext cx="84247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rque sin el sacrificio era imposible que la raza humana escapara del poder contaminador del pecado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se pusiera en comunión con los seres sant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108000" y="179064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Imposible que los hombres llegaran a ser partícipes de la vida espiritu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324000" y="166860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fue por esto por lo que Cristo tomó sobre sí la culpa del desobediente y sufrió en lugar del pec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250920" y="1741320"/>
            <a:ext cx="8642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amor, los sufrimientos y la muerte del Hijo de Dios, todo da testimonio de la terrible enormidad d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539640" y="2068560"/>
            <a:ext cx="7920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esto no es arrepentimiento en el sentido bíblic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395280" y="177336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prueba que no hay modo de escapar de su poder, sino mediante la sumisión del alma a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2"/>
          <p:cNvSpPr/>
          <p:nvPr/>
        </p:nvSpPr>
        <p:spPr>
          <a:xfrm>
            <a:off x="324000" y="174132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gunas veces los impenitentes se excusan diciendo cosas de los que profesan ser cristian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179280" y="1515960"/>
            <a:ext cx="8820360" cy="36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ic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"Soy tan bueno como ellos.  No son más abnegados, sobrios, ni circunspectos en su conducta que yo. Les gustan los placeres y la complacencia propia tanto como a mí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324000" y="20160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sí hacen de las faltas de  otros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excusa por su propio descuido del de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1"/>
          <p:cNvSpPr/>
          <p:nvPr/>
        </p:nvSpPr>
        <p:spPr>
          <a:xfrm>
            <a:off x="324000" y="19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lo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faltas de otros no justifican los nuest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324000" y="200664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el Señor no n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 dado un imperfecto modelo hu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ángulo 1"/>
          <p:cNvSpPr/>
          <p:nvPr/>
        </p:nvSpPr>
        <p:spPr>
          <a:xfrm>
            <a:off x="324000" y="169056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nos ha d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modelo al inmaculado Hijo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ángulo 1"/>
          <p:cNvSpPr/>
          <p:nvPr/>
        </p:nvSpPr>
        <p:spPr>
          <a:xfrm>
            <a:off x="324000" y="1924200"/>
            <a:ext cx="85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los que se quejan de la mala vida de los que profesan ser creyente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on los que deberían presentar una vida y un ejemplo más no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ángulo 1"/>
          <p:cNvSpPr/>
          <p:nvPr/>
        </p:nvSpPr>
        <p:spPr>
          <a:xfrm>
            <a:off x="324000" y="21700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i tienen un concepto tan alto de lo que un cristiano debe 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ES SU PECADO TANTO MAY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ángulo 1"/>
          <p:cNvSpPr/>
          <p:nvPr/>
        </p:nvSpPr>
        <p:spPr>
          <a:xfrm>
            <a:off x="324000" y="207972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aben lo que es bueno y, sin embargo rehúsan hacerl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971640" y="232236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mentan la pena más que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ángulo 1"/>
          <p:cNvSpPr/>
          <p:nvPr/>
        </p:nvSpPr>
        <p:spPr>
          <a:xfrm>
            <a:off x="395280" y="166860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sterguéis la obra de abandonar vuestros pecados y buscar la pureza del corazón por medio de Jesú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ángulo 1"/>
          <p:cNvSpPr/>
          <p:nvPr/>
        </p:nvSpPr>
        <p:spPr>
          <a:xfrm>
            <a:off x="395280" y="2060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quí es donde miles y miles han errado, para su perdición eter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Rectángulo 1"/>
          <p:cNvSpPr/>
          <p:nvPr/>
        </p:nvSpPr>
        <p:spPr>
          <a:xfrm>
            <a:off x="324000" y="207972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insistiré sobre la brevedad e incertidumbre de la vid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ángulo 1"/>
          <p:cNvSpPr/>
          <p:nvPr/>
        </p:nvSpPr>
        <p:spPr>
          <a:xfrm>
            <a:off x="395280" y="191628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hay un terrible peligro, un peligro que no se entiende suficientemen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ángulo 1"/>
          <p:cNvSpPr/>
          <p:nvPr/>
        </p:nvSpPr>
        <p:spPr>
          <a:xfrm>
            <a:off x="468360" y="2060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retardarse en ceder a la invitación del Espíritu Santo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ángulo 1"/>
          <p:cNvSpPr/>
          <p:nvPr/>
        </p:nvSpPr>
        <p:spPr>
          <a:xfrm>
            <a:off x="468360" y="1587600"/>
            <a:ext cx="81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preferir vivir en el pecado, porque tal demora consiste realmente en e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ángulo 1"/>
          <p:cNvSpPr/>
          <p:nvPr/>
        </p:nvSpPr>
        <p:spPr>
          <a:xfrm>
            <a:off x="539640" y="162864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ecado,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or pequeño que se suponga,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no puede consentirse sino a riesgo de una pérdida infini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ángulo 1"/>
          <p:cNvSpPr/>
          <p:nvPr/>
        </p:nvSpPr>
        <p:spPr>
          <a:xfrm>
            <a:off x="539640" y="179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que no venzamos nos vencerá y determinará nuestra destr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ángulo 1"/>
          <p:cNvSpPr/>
          <p:nvPr/>
        </p:nvSpPr>
        <p:spPr>
          <a:xfrm>
            <a:off x="324000" y="1822320"/>
            <a:ext cx="84960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Adán y Eva se persuadieron de que por una cosa de tan poca importancia, como comer la fruta prohibida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o podrían resultar tan terribles consecuencias como Dios les había decla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ángulo 1"/>
          <p:cNvSpPr/>
          <p:nvPr/>
        </p:nvSpPr>
        <p:spPr>
          <a:xfrm>
            <a:off x="34920" y="1844640"/>
            <a:ext cx="9074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a cosa tan pequeña era la transgresión de la santa e inmutable ley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324000" y="234936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Tal fue el dolor de Esaú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cuando vio que había perdido su primogenitura para siempr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ángulo 1"/>
          <p:cNvSpPr/>
          <p:nvPr/>
        </p:nvSpPr>
        <p:spPr>
          <a:xfrm>
            <a:off x="216000" y="2282760"/>
            <a:ext cx="87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separaba de Dios al homb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ángulo 1"/>
          <p:cNvSpPr/>
          <p:nvPr/>
        </p:nvSpPr>
        <p:spPr>
          <a:xfrm>
            <a:off x="216000" y="2079720"/>
            <a:ext cx="88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abría las puertas de la muerte y de miserias sobre nuestro m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ángulo 1"/>
          <p:cNvSpPr/>
          <p:nvPr/>
        </p:nvSpPr>
        <p:spPr>
          <a:xfrm>
            <a:off x="250920" y="2060640"/>
            <a:ext cx="871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glo tras siglo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 subido de nuestra tierra un continuo lamento de aflic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ángulo 1"/>
          <p:cNvSpPr/>
          <p:nvPr/>
        </p:nvSpPr>
        <p:spPr>
          <a:xfrm>
            <a:off x="250920" y="1773360"/>
            <a:ext cx="86421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reación aún gime bajo la fatiga terrible del dolor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mo consecu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de la desobediencia del h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Rectángulo 1"/>
          <p:cNvSpPr/>
          <p:nvPr/>
        </p:nvSpPr>
        <p:spPr>
          <a:xfrm>
            <a:off x="324000" y="21398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ielo mismo ha sentido los efectos de la rebelión del hombre contra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ángulo 1"/>
          <p:cNvSpPr/>
          <p:nvPr/>
        </p:nvSpPr>
        <p:spPr>
          <a:xfrm>
            <a:off x="287280" y="2087640"/>
            <a:ext cx="846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El Calvario está delante de nosotr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como un recuerdo del sacrificio asombroso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que se requirió para expiar la transgresión de la ley div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ángulo 1"/>
          <p:cNvSpPr/>
          <p:nvPr/>
        </p:nvSpPr>
        <p:spPr>
          <a:xfrm>
            <a:off x="250920" y="234936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consideremos el pecado como cosa trivia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Rectángulo 1"/>
          <p:cNvSpPr/>
          <p:nvPr/>
        </p:nvSpPr>
        <p:spPr>
          <a:xfrm>
            <a:off x="144360" y="2117880"/>
            <a:ext cx="896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Toda transgresión, todo descuido o rechazo de la gracia de Cristo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obra indirectamente sobre vosotr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ángulo 1"/>
          <p:cNvSpPr/>
          <p:nvPr/>
        </p:nvSpPr>
        <p:spPr>
          <a:xfrm>
            <a:off x="179280" y="165888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durece el corazón, deprava la voluntad, entorpece el entend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ángulo 1"/>
          <p:cNvSpPr/>
          <p:nvPr/>
        </p:nvSpPr>
        <p:spPr>
          <a:xfrm>
            <a:off x="324000" y="2060640"/>
            <a:ext cx="8569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solamente os hace me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inclinados a ceder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ino también menos capaces de ceder a la tierna invitación del Espíritu de D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250920" y="2060640"/>
            <a:ext cx="856908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Balaam, aterrorizado por el áng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que estaba en su camino con la espada desnud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reconoció su cul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ángulo 1"/>
          <p:cNvSpPr/>
          <p:nvPr/>
        </p:nvSpPr>
        <p:spPr>
          <a:xfrm>
            <a:off x="324000" y="1844640"/>
            <a:ext cx="8496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uchos están apaciguando su conciencia inquieta con el pensamiento de que pueden cambiar su mala conducta cuando quier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ángulo 1"/>
          <p:cNvSpPr/>
          <p:nvPr/>
        </p:nvSpPr>
        <p:spPr>
          <a:xfrm>
            <a:off x="395280" y="170028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que pueden tratar con ligereza las invitaciones de la misericordia y, sin embargo, seguir siendo llama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ángulo 1"/>
          <p:cNvSpPr/>
          <p:nvPr/>
        </p:nvSpPr>
        <p:spPr>
          <a:xfrm>
            <a:off x="179280" y="2006640"/>
            <a:ext cx="871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iensan que después de menospreciar al Espíritu de grac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ángulo 1"/>
          <p:cNvSpPr/>
          <p:nvPr/>
        </p:nvSpPr>
        <p:spPr>
          <a:xfrm>
            <a:off x="324000" y="148608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spués de echar su influencia del lado de Sataná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n un momento de terrible necesidad pueden cambiar de conduc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ángulo 1"/>
          <p:cNvSpPr/>
          <p:nvPr/>
        </p:nvSpPr>
        <p:spPr>
          <a:xfrm>
            <a:off x="826920" y="2354400"/>
            <a:ext cx="734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o no se hace tan fácilm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ángulo 1"/>
          <p:cNvSpPr/>
          <p:nvPr/>
        </p:nvSpPr>
        <p:spPr>
          <a:xfrm>
            <a:off x="324000" y="190332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experiencia y la educación de una vida entera han amoldado de tal manera el carácter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pocos desean después recibir la imagen de Jesú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ángulo 1"/>
          <p:cNvSpPr/>
          <p:nvPr/>
        </p:nvSpPr>
        <p:spPr>
          <a:xfrm>
            <a:off x="250920" y="1657440"/>
            <a:ext cx="8642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Un solo rasgo malo de carácter, un solo deseo pecaminoso, acariciado persistentemente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neutralizan a veces todo el poder del Evangel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ángulo 1"/>
          <p:cNvSpPr/>
          <p:nvPr/>
        </p:nvSpPr>
        <p:spPr>
          <a:xfrm>
            <a:off x="971640" y="2057400"/>
            <a:ext cx="748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Toda indulgencia pecaminosa fortalece la aversión del alma hacia Di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ángulo 1"/>
          <p:cNvSpPr/>
          <p:nvPr/>
        </p:nvSpPr>
        <p:spPr>
          <a:xfrm>
            <a:off x="539640" y="184464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hombre que manifiesta un descreído atrevimiento o una impasible indiferencia hacia la ver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ángulo 1"/>
          <p:cNvSpPr/>
          <p:nvPr/>
        </p:nvSpPr>
        <p:spPr>
          <a:xfrm>
            <a:off x="539640" y="213372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stá sino segando la cosecha de su propia siem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324000" y="2060640"/>
            <a:ext cx="8496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Sólo por temor de perder la vida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as no experimentó un arrepentimiento sincero del pe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ángulo 1"/>
          <p:cNvSpPr/>
          <p:nvPr/>
        </p:nvSpPr>
        <p:spPr>
          <a:xfrm>
            <a:off x="395280" y="177336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 la Biblia no hay amonestación más terrible contra el jugar con el mal que las palabras del hombre sab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ángulo 1"/>
          <p:cNvSpPr/>
          <p:nvPr/>
        </p:nvSpPr>
        <p:spPr>
          <a:xfrm>
            <a:off x="539640" y="1773360"/>
            <a:ext cx="7920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dic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renderán al impío sus propias iniquidades”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Proverbios 5: 2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ángulo 1"/>
          <p:cNvSpPr/>
          <p:nvPr/>
        </p:nvSpPr>
        <p:spPr>
          <a:xfrm>
            <a:off x="395280" y="20685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está pronto para libertarnos del pecado, pero no fuerza la volunt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ángulo 1"/>
          <p:cNvSpPr/>
          <p:nvPr/>
        </p:nvSpPr>
        <p:spPr>
          <a:xfrm>
            <a:off x="1116000" y="1690560"/>
            <a:ext cx="7128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si por la persistencia en el pecado la voluntad misma se inclina enteramente al mal, si no queremos aceptar su gracia, 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é más puede hacer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ángulo 1"/>
          <p:cNvSpPr/>
          <p:nvPr/>
        </p:nvSpPr>
        <p:spPr>
          <a:xfrm>
            <a:off x="324000" y="159696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emos obrado nuestra propia destrucción por nuestro deliberado rechazo de su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Rectángulo 1"/>
          <p:cNvSpPr/>
          <p:nvPr/>
        </p:nvSpPr>
        <p:spPr>
          <a:xfrm>
            <a:off x="395280" y="177336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e aquí ahora es el tiempo acepto!  ¡he aquí ahora es el día de salvación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2 Corintios 6: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ángulo 2"/>
          <p:cNvSpPr/>
          <p:nvPr/>
        </p:nvSpPr>
        <p:spPr>
          <a:xfrm>
            <a:off x="468360" y="1895400"/>
            <a:ext cx="8136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oy, si oyereis su voz, no endurezcáis vuestros corazones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Hebreos 3: 7, 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ángulo 1"/>
          <p:cNvSpPr/>
          <p:nvPr/>
        </p:nvSpPr>
        <p:spPr>
          <a:xfrm>
            <a:off x="468360" y="203832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hombre ve lo que aparece, mas el Señor ve el corazón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Samuel 16: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Rectángulo 1"/>
          <p:cNvSpPr/>
          <p:nvPr/>
        </p:nvSpPr>
        <p:spPr>
          <a:xfrm>
            <a:off x="216000" y="1658880"/>
            <a:ext cx="8677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corazón humano con sus emociones de gozo y de tristeza, el extraviado y caprichoso corazón, morada de tanta impureza y engañ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ángulo 1"/>
          <p:cNvSpPr/>
          <p:nvPr/>
        </p:nvSpPr>
        <p:spPr>
          <a:xfrm>
            <a:off x="324000" y="235440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sabe sus motivos, sus mismos intentos y mir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2"/>
          <p:cNvSpPr/>
          <p:nvPr/>
        </p:nvSpPr>
        <p:spPr>
          <a:xfrm>
            <a:off x="179280" y="1851120"/>
            <a:ext cx="878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Como se justificará el hombre con Dios?¿Cómo se hará justo el pecador?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611280" y="2421000"/>
            <a:ext cx="79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i un cambio de propósito, ni aborrecimiento del m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ángulo 1"/>
          <p:cNvSpPr/>
          <p:nvPr/>
        </p:nvSpPr>
        <p:spPr>
          <a:xfrm>
            <a:off x="324000" y="24256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Id a él con vuestra alma manchada como est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Rectángulo 1"/>
          <p:cNvSpPr/>
          <p:nvPr/>
        </p:nvSpPr>
        <p:spPr>
          <a:xfrm>
            <a:off x="324000" y="1935000"/>
            <a:ext cx="849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el salmista, abrid sus cámaras al ojo que todo lo ve, exclaman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ángulo 1"/>
          <p:cNvSpPr/>
          <p:nvPr/>
        </p:nvSpPr>
        <p:spPr>
          <a:xfrm>
            <a:off x="468360" y="1628640"/>
            <a:ext cx="828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¡Escudríñame, oh Dios, y conoce mi corazón: ensáyame, y conoce mis pensamientos; y ve si hay en mí algún camino malo, y guíame en el camino eterno!"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139: 23, 2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ángulo 1"/>
          <p:cNvSpPr/>
          <p:nvPr/>
        </p:nvSpPr>
        <p:spPr>
          <a:xfrm>
            <a:off x="395280" y="210996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uchos aceptan una religión intelectual, una forma de santidad, sin que el corazón esté limpi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Rectángulo 1"/>
          <p:cNvSpPr/>
          <p:nvPr/>
        </p:nvSpPr>
        <p:spPr>
          <a:xfrm>
            <a:off x="395280" y="2060640"/>
            <a:ext cx="8209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a vuestra oración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¡Crea en mí, oh Dios, un corazón limpio, y renueva un espíritu recto dentro de mí!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51: 10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ángulo 1"/>
          <p:cNvSpPr/>
          <p:nvPr/>
        </p:nvSpPr>
        <p:spPr>
          <a:xfrm>
            <a:off x="539640" y="206532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d leales con vuestra propia alm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ángulo 1"/>
          <p:cNvSpPr/>
          <p:nvPr/>
        </p:nvSpPr>
        <p:spPr>
          <a:xfrm>
            <a:off x="395280" y="1822320"/>
            <a:ext cx="838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Sed tan diligentes, tan persistentes, como lo seríais si vuestra vida mortal estuviera en peligr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Rectángulo 1"/>
          <p:cNvSpPr/>
          <p:nvPr/>
        </p:nvSpPr>
        <p:spPr>
          <a:xfrm>
            <a:off x="468360" y="2038320"/>
            <a:ext cx="8207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te es un asunto que debe arreglarse entre Dios y vuestra alma; arreglarse para la etern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ángulo 1"/>
          <p:cNvSpPr/>
          <p:nvPr/>
        </p:nvSpPr>
        <p:spPr>
          <a:xfrm>
            <a:off x="395280" y="203832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a esperanza supuesta, y nada más, llegará a ser vuestra ru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ángulo 1"/>
          <p:cNvSpPr/>
          <p:nvPr/>
        </p:nvSpPr>
        <p:spPr>
          <a:xfrm>
            <a:off x="468360" y="2641680"/>
            <a:ext cx="83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tudiad la Palabra de Dios con or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324000" y="1454040"/>
            <a:ext cx="8496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udas Iscariote, después de traicionar a su Señor, exclamó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He pecado, entregando la sangre inocente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27: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ángulo 1"/>
          <p:cNvSpPr/>
          <p:nvPr/>
        </p:nvSpPr>
        <p:spPr>
          <a:xfrm>
            <a:off x="250920" y="1527120"/>
            <a:ext cx="874872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La Palabra os presenta, en la ley de Dios y en la vida de Cristo, los grandes principios de la santidad, sin la cual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</a:rPr>
              <a:t>“nadie verá al Señor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Hebreos 12: 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ángulo 1"/>
          <p:cNvSpPr/>
          <p:nvPr/>
        </p:nvSpPr>
        <p:spPr>
          <a:xfrm>
            <a:off x="395280" y="184464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vence de pecado; revela plenamente el camino de la salv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ángulo 1"/>
          <p:cNvSpPr/>
          <p:nvPr/>
        </p:nvSpPr>
        <p:spPr>
          <a:xfrm>
            <a:off x="611280" y="2006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restadle atención como a la voz de Dios que os habl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ángulo 1"/>
          <p:cNvSpPr/>
          <p:nvPr/>
        </p:nvSpPr>
        <p:spPr>
          <a:xfrm>
            <a:off x="324000" y="1689120"/>
            <a:ext cx="8424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veáis la enormidad del pecado, cuando os veáis como sois en realidad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os entreguéis a la desespera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ángulo 1"/>
          <p:cNvSpPr/>
          <p:nvPr/>
        </p:nvSpPr>
        <p:spPr>
          <a:xfrm>
            <a:off x="611280" y="2006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ues a los pecadores es a quienes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ino a salv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ángulo 1"/>
          <p:cNvSpPr/>
          <p:nvPr/>
        </p:nvSpPr>
        <p:spPr>
          <a:xfrm>
            <a:off x="395280" y="1700280"/>
            <a:ext cx="84247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No tenemos que reconciliar a Dios con nosotros, sino ¡oh maravilloso amor! 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"Dios estaba en Cristo, reconciliando consigo mismo al mundo"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2 Corintios 5: 19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ángulo 1"/>
          <p:cNvSpPr/>
          <p:nvPr/>
        </p:nvSpPr>
        <p:spPr>
          <a:xfrm>
            <a:off x="395280" y="2006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está solicitando por su tierno amor los corazones de sus hijos err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ángulo 1"/>
          <p:cNvSpPr/>
          <p:nvPr/>
        </p:nvSpPr>
        <p:spPr>
          <a:xfrm>
            <a:off x="395280" y="1844640"/>
            <a:ext cx="8353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Ningún padre según la carne podría ser tan paciente con las faltas y yerros de sus hij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mo lo es Dios con aquellos a quienes trata de salv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ángulo 1"/>
          <p:cNvSpPr/>
          <p:nvPr/>
        </p:nvSpPr>
        <p:spPr>
          <a:xfrm>
            <a:off x="395280" y="2006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adie podría argüir más tiernamente con el pec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ángulo 1"/>
          <p:cNvSpPr/>
          <p:nvPr/>
        </p:nvSpPr>
        <p:spPr>
          <a:xfrm>
            <a:off x="395280" y="206064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Jamás labios humanos han dirigido invitaciones más tiernas que él al extravi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431640" y="1527120"/>
            <a:ext cx="8388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ta confesión fue arrancada a la fuerza de su alma culpa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un tremendo sentido de condenación y una pavorosa expectación de juic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ángulo 1"/>
          <p:cNvSpPr/>
          <p:nvPr/>
        </p:nvSpPr>
        <p:spPr>
          <a:xfrm>
            <a:off x="395280" y="1957320"/>
            <a:ext cx="8353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Todas sus promesas,  sus amonestacione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n sino la expresión de su indecible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ángulo 1"/>
          <p:cNvSpPr/>
          <p:nvPr/>
        </p:nvSpPr>
        <p:spPr>
          <a:xfrm>
            <a:off x="324000" y="2492280"/>
            <a:ext cx="8424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Cuando Satanás viene a decirte que eres un gran pecador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ira a tu Redentor y habla de sus méri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ángulo 1"/>
          <p:cNvSpPr/>
          <p:nvPr/>
        </p:nvSpPr>
        <p:spPr>
          <a:xfrm>
            <a:off x="755640" y="2492280"/>
            <a:ext cx="773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que te ayudará será el mirar su lu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ángulo 1"/>
          <p:cNvSpPr/>
          <p:nvPr/>
        </p:nvSpPr>
        <p:spPr>
          <a:xfrm>
            <a:off x="324000" y="1916280"/>
            <a:ext cx="842472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Reconoce tu pecado, pero di al enemigo que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Cristo Jesús vino al mundo para salvar a los pecadores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1 Timoteo 1: 1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ángulo 1"/>
          <p:cNvSpPr/>
          <p:nvPr/>
        </p:nvSpPr>
        <p:spPr>
          <a:xfrm>
            <a:off x="324000" y="1844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que pue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 salvo por su incomparable am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ángulo 1"/>
          <p:cNvSpPr/>
          <p:nvPr/>
        </p:nvSpPr>
        <p:spPr>
          <a:xfrm>
            <a:off x="468360" y="2151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hizo una pregunta a Simón</a:t>
            </a: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on respecto a dos deudo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ángulo 1"/>
          <p:cNvSpPr/>
          <p:nvPr/>
        </p:nvSpPr>
        <p:spPr>
          <a:xfrm>
            <a:off x="395280" y="1844640"/>
            <a:ext cx="8280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rimero debía a su señor una suma pequeña y el segundo una muy grande; pero él perdonó a amb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Rectángulo 1"/>
          <p:cNvSpPr/>
          <p:nvPr/>
        </p:nvSpPr>
        <p:spPr>
          <a:xfrm>
            <a:off x="179280" y="1773360"/>
            <a:ext cx="882036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Cristo preguntó a Simón cuál deudor amaría más a su señor.  Simón contestó: 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Aquel a quien más perdonó"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Lucas 7: 43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ángulo 1"/>
          <p:cNvSpPr/>
          <p:nvPr/>
        </p:nvSpPr>
        <p:spPr>
          <a:xfrm>
            <a:off x="216000" y="1916280"/>
            <a:ext cx="87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emos sido grandes deudores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Cristo murió para que fuésemos perdon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ángulo 1"/>
          <p:cNvSpPr/>
          <p:nvPr/>
        </p:nvSpPr>
        <p:spPr>
          <a:xfrm>
            <a:off x="287280" y="2128680"/>
            <a:ext cx="86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Los méritos de su sacrificio son sufic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presentarlos al Padre en nuestro fav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250920" y="2060640"/>
            <a:ext cx="856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s consecuencias que habían de resultarle lo llenaban de terror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ro no experimentó profundo quebrantamiento de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Rectángulo 1"/>
          <p:cNvSpPr/>
          <p:nvPr/>
        </p:nvSpPr>
        <p:spPr>
          <a:xfrm>
            <a:off x="509760" y="1914480"/>
            <a:ext cx="82692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quellos a quienes ha perdonado má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o amarán más, y estarán más cerca de su trono alabándolo por su grande amor e infinito sacrific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ángulo 1"/>
          <p:cNvSpPr/>
          <p:nvPr/>
        </p:nvSpPr>
        <p:spPr>
          <a:xfrm>
            <a:off x="324000" y="1944720"/>
            <a:ext cx="8496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to más plenamente comprendemos el amor de Di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ás nos percatamos de la pecaminosidad d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ángulo 1"/>
          <p:cNvSpPr/>
          <p:nvPr/>
        </p:nvSpPr>
        <p:spPr>
          <a:xfrm>
            <a:off x="539640" y="2133720"/>
            <a:ext cx="8353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uando vemos cuán larga es la cadena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que se nos ha arrojado para rescatarno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ángulo 1"/>
          <p:cNvSpPr/>
          <p:nvPr/>
        </p:nvSpPr>
        <p:spPr>
          <a:xfrm>
            <a:off x="324000" y="184464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tendemos algo del sacrificio infinito que Cristo ha hecho en nuestro favo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179280" y="1773360"/>
            <a:ext cx="8496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Tampoco dolor de al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haber traicionado al Hijo inmaculado de Dios y negado al santo de Israe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44360" y="2060640"/>
            <a:ext cx="8964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0000"/>
                </a:solidFill>
                <a:latin typeface="Calibri"/>
              </a:rPr>
              <a:t>Cuando Faraón sufría los juicios de Dios,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conoció su pecado a 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escapar del castig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324000" y="227664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volvió a desafiar al cielo tan pronto como cesaron las plag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0" y="2025720"/>
            <a:ext cx="914400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Calibri"/>
              </a:rPr>
              <a:t>Todos lamentaban los resultados del pecado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no sentían tristeza por el pecado mismo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216000" y="1658880"/>
            <a:ext cx="86770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Mas cuando el corazón cede a la influencia del Espíritu de Dios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la conciencia se vivifica y el pecador discierne algo de la profundidad y santidad de la sagrada ley de Di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9890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fundamento de su gobierno en los cielos y en la ti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62864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Solamente por intermedio de Cristo podemos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nernos en armonía con Dios y la santi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468360" y="2089080"/>
            <a:ext cx="7991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Luz verdadera, que alumbra a todo hombre que viene a este mundo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: 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395280" y="221148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Ilumina las cámaras secretas del alma y se manifiestan las cosas ocul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684360" y="1844640"/>
            <a:ext cx="77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convicción se posesiona de la mente y del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395280" y="1773360"/>
            <a:ext cx="820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pecador tiene entonces conciencia de la justicia de Jehov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y siente terror de aparecer en su iniquidad e impureza delante del que escudriña los cora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755640" y="198900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 el amor de Dios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belleza de la santidad y el gozo de la   purez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611280" y="2139840"/>
            <a:ext cx="770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nsía ser purificado y restituido a la comunión del cie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179280" y="2108160"/>
            <a:ext cx="8785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oración de David después de su caí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una ilustración de la naturaleza del verdadero dolor por el peca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755640" y="22827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arrepentimiento era sincero y profun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24000" y="2060640"/>
            <a:ext cx="820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No hizo ningún esfuerzo por atenuar su crimen; ningún deseo de escapar del juicio que lo amenazaba inspiró su o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324000" y="2205000"/>
            <a:ext cx="842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avid veía la enormidad de su transgresión; veía las manchas de su alma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borrecía su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826920" y="2282760"/>
            <a:ext cx="7490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ero, 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cómo debemos ir a Cristo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539640" y="179064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imploraba solamente el perdón, sino tambié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pureza del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179280" y="1916280"/>
            <a:ext cx="86774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seaba tener el gozo de la santidad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er restituido a la armonía y comunión con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79280" y="1739880"/>
            <a:ext cx="8640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te era el lenguaje de su alma: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¡Bienaventurado aquel cuya transgresión ha sido perdonada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ubierto su pecado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468360" y="1916280"/>
            <a:ext cx="8280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Bienaventurado el hombre a quien Jehová no atribuye la iniquidad, cuyo espíritu no hay engaño!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32: 1,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250920" y="162864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Apiádate de mí, oh Dios, conforme a tu misericordia;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forme a la muchedumbre de tus piedades, borra mis transgresione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755640" y="1844640"/>
            <a:ext cx="77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que yo reconozco mis transgresiones, y mi pecado está siempre delante de mí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611280" y="184464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Purifícame con hisopo, y seré limpio;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 lávame, y quedaré más blanco que la niev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684360" y="2133720"/>
            <a:ext cx="7559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Crea en mí, oh Dios, un corazón limpio, y renueva un espíritu recto dentro de mí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468360" y="191628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No me eches de tu presencia, y no me quites tu Santo Espíritu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611280" y="19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¡Restitúyeme el gozo de tu salvación, y el Espíritu de gracia me sustent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108000" y="1884240"/>
            <a:ext cx="892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uchos formulan la misma pregunta que hicieron las multitudes el día de Pentecosté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395280" y="1989000"/>
            <a:ext cx="835344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Líbrame del delito de sangre, oh Dios, el Dios de mi salvación!</a:t>
            </a:r>
            <a:br>
              <a:rPr sz="4800"/>
            </a:b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¡cante mi lengua tu justicia!”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lmo 51: 1, 1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611280" y="1844640"/>
            <a:ext cx="8281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fectuar un arrepentimiento como éste, est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más allá del alca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de nuestro propio po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179280" y="2179800"/>
            <a:ext cx="8856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Se obtiene solamente de Cristo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quien ascendió a lo alto y ha dado dones a los homb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611280" y="171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recisamente éste es un punto sobre el cual muchos yerra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395280" y="220500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por esto dejan de recibir la ayuda que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iere dar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468360" y="1862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iensan que no pueden ir a Cristo a menos 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arrepientan prime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395280" y="1989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que el arrepentimiento los prepara pa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perdón de su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179280" y="1773360"/>
            <a:ext cx="885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verdad que el arrepentimiento precede al perdón de los pecad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395280" y="16686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que solamente el corazón quebrantado y contrito es el que siente la necesida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un Salva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539640" y="1587600"/>
            <a:ext cx="799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, ¿debe el pecador esperar hasta que se haya arrepentido, para poder ir a Jesús?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395280" y="1989000"/>
            <a:ext cx="828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, convencidas de su pecado, exclamaron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¿Qué haremos?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395280" y="169056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Ha de ser el arrepentimiento un obstáculo entre el pecador y el Salvado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324000" y="1627200"/>
            <a:ext cx="8424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La Biblia no enseñ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que el pecador deba arrepentirse antes de poder aceptar la invitación de Cris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395280" y="1628640"/>
            <a:ext cx="8209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Venid a mí todos los que estáis cansados y agobiados, y yo os daré descanso!"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11: 2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539640" y="1844640"/>
            <a:ext cx="80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virtud que viene de Cristo es la que guía a un arrepentimiento genui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468360" y="16905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n Pedro habla del asunto de una manera muy clara en su exposición a los israelit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250920" y="1125360"/>
            <a:ext cx="8281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dice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éste, Dios le ensalzó con su diestra para ser Príncipe y Salvador, a fin de dar arrepentimiento a Israel, y remisión de pecados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Hechos 5: 3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179280" y="197496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o podemos arrepentirnos sin que el Espíritu de Cristo despierte la conciencia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más de lo que podemos ser perdonados sin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900000" y="1989000"/>
            <a:ext cx="741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risto es la fuen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todo buen impuls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395280" y="191628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es el único que puede implantar en el corazón enemistad contra el peca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79280" y="2133720"/>
            <a:ext cx="889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Todo deseo de verdad, de pureza, toda convicción de nuestra propia pecaminosidad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s una prueba de que su Espíritu está obrando en nuestro coraz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539640" y="1862280"/>
            <a:ext cx="806472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primera palabra de contestación de Pedro fue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Arrepentíos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468360" y="1700280"/>
            <a:ext cx="799128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ij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Yo, si fuere levantado en alto de sobre la tierra, a todos los atraeré a mí mismo"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2: 32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468360" y="1916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debe ser revelado al pecador como el Salvador que muere por los pecados del mund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95280" y="1700280"/>
            <a:ext cx="8353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cuando consideramos al Cordero de Dios sobre la cruz del Calvario, el misterio de la redención comienza a abrirse a nuestra ment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0" y="2138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la bondad de Di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guía al arrepent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395280" y="1773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morir Cris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los pecadores, manifestó un amor incomprensi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179280" y="1495440"/>
            <a:ext cx="88203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este amor, a medida que 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cador lo contempla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ternece el corazón, impresiona la mente e inspira constricción en el alm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250920" y="1832040"/>
            <a:ext cx="871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s verdad que algunas veces los hombres se avergüenzan y abandonan algunos de sus malos hábitos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antes de darse cuenta de que son atraídos a Cri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395280" y="184464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ro cuando hacen un esfuerzo por reformarse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con un sincero deseo de hacer el bien,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s el poder de Cristo el que los está atraye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395280" y="191628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a influencia de la cual no se dan cuenta, obra sobre el alma, la conciencia se vivifica y la vida externa se enmiend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395280" y="1658880"/>
            <a:ext cx="8424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Y a medida que Cristo los induce a mirar su cruz y contemplar a quien han traspasado sus pecados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mandamiento despierta la conci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95280" y="1557360"/>
            <a:ext cx="8497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co después, en otra ocasión, dij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rrepentíos pues, y volveos a Dios; para que sean borrados vuestros pecados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Hechos 2: 38; 3: 1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250920" y="1963800"/>
            <a:ext cx="85690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00000"/>
                </a:solidFill>
                <a:latin typeface="Calibri"/>
              </a:rPr>
              <a:t>La maldad de su vida, </a:t>
            </a: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el pecado profundamente arraigado en su alma se les revel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66600" y="1743120"/>
            <a:ext cx="88981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mienzan a entender algo de la justicia de Cristo y exclaman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é es el pecado, para que exigiera tal sacrificio por la redención de su víctima?”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324000" y="1824120"/>
            <a:ext cx="856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Fueron necesarios todo este amor, todo este sufrimiento, toda esta humillación, para que no pereciéramos, sino que tuviéramos vida eterna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395280" y="1916280"/>
            <a:ext cx="813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l pecador puede resistir a este amor, puede rehusar ser atraído a Cristo; pero si no se resiste será atraído a Jesú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324000" y="1700280"/>
            <a:ext cx="86407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un conocimiento del plan de la salvación lo guiará al pie de la cruz,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rrepentido de sus pecados, que han causado los sufrimientos del amado Hijo de Dio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250920" y="1914480"/>
            <a:ext cx="87138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a misma inteligencia divina que obra en la naturalez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habla al corazón de los hombres y crea un deseo indecible de algo que no tie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468360" y="206064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s cosas del mundo no pueden satisfacer su ansied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324000" y="199692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El Espíritu de Dios está suplicándoles que busquen las cosas que sólo pueden dar paz y descanso: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a gracia de cristo y el gozo de la santida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324000" y="2060640"/>
            <a:ext cx="864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Nuestro Salvador está constantemente obrando para atraer el corazón de los hombres </a:t>
            </a: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del pecado a las bendiciones infinitas que pueden disfrutar en É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250920" y="17496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 todas las almas que están procurando vanamente beber en las cisternas rotas del mundo, se dirige un mensaje divi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324000" y="2181240"/>
            <a:ext cx="8424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El arrepentimiento comprende tristeza por el pecado y abandono del mismo.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395280" y="1628640"/>
            <a:ext cx="82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que tiene sed,  ¡venga!  ¡y el que quiera, tome del agua de la vida, de balde!"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Apocalipsis 22: 17)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395280" y="1914480"/>
            <a:ext cx="8353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Los que en vuestro corazón anheláis algo mejor que este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reconoced este deseo como la voz de Dios que habla a vuestras al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395280" y="18223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edidle que os dé arrepentimiento, que os revele a Cristo en su amor infinito y en su pureza perfect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324000" y="1728720"/>
            <a:ext cx="84247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n la vida del Salvador quedaron perfectamente ejemplif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los principios de la ley de Dios y el amor a Dios y al h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468360" y="213984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benevolencia y el amor desinteresado fueron la vida de su al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395280" y="2178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ontemplándolo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inunda la luz de nuestro Salvado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468360" y="213372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podemos ver la pecaminosidad de nuestro coraz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250920" y="1851120"/>
            <a:ext cx="84978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odemos lisonjearnos cómo Nicodemo,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que nuestra vida ha sido muy bue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216000" y="1749600"/>
            <a:ext cx="874872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que nuestro carácter es perfecto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pensar que no necesitamos humillar nuestro corazón delante de Dios como el pecador comú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324000" y="177336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ero cuando la luz de Cristo resplandece en nuestras almas, vemos cuán impuros som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8:32:38Z</dcterms:created>
  <dc:creator>Orlando Rosales</dc:creator>
  <dc:description/>
  <dc:language>en-US</dc:language>
  <cp:lastModifiedBy>Karina de Martin</cp:lastModifiedBy>
  <dcterms:modified xsi:type="dcterms:W3CDTF">2017-03-12T15:42:32Z</dcterms:modified>
  <cp:revision>80</cp:revision>
  <dc:subject/>
  <dc:title>CAPÍTULO 3. Un Poder Misterioso que Convence </dc:title>
</cp:coreProperties>
</file>